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465-3AFC-4BAE-8C98-5867BCA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98E-9CC9-4968-92FC-3BB775A5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32B-5D03-4C81-80A2-A70D5DB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435-D2F3-487D-A244-7AA9C79D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4996-4E8D-4A68-ACE3-76744A2A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233F-8429-4F78-B887-5667F64B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1352-9728-4801-B7E3-55309B52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0EB1-D1A1-4A22-8DB0-56EC402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DB1D-6750-4830-B709-F336CD0F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A2B-9F96-439F-AABF-12AC4F8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453-D15F-4B43-8783-7F29A817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207-37A8-484A-809B-31C8147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340-3F1D-4F13-88E5-CECD2F0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A9E4-50B1-4967-9818-C340C9D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8743-5571-411F-BC20-8DC012E2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B73D-99F0-4D0B-86F4-D5200774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5CD0-AD98-4E94-88A7-E3B47B51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AE0-0E0A-4BA6-97B0-38427B5E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F66-A56F-4A05-85BE-93C4F70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8A0-A052-485A-BB04-A9A658A6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23C-4B38-42CC-9D97-38ED4392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232-14DE-4BEF-ABAA-DC66A30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454-0EDC-4A6D-8453-B4288AA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7202-BA4F-4881-B4DB-77B6D0B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071B-B3CF-4310-9523-E9FECF11D3E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E7AC-8886-44AA-A12A-460A6859309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4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0" y="4714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"/>
          <p:cNvPicPr/>
          <p:nvPr/>
        </p:nvPicPr>
        <p:blipFill>
          <a:blip r:embed="rId2"/>
          <a:stretch/>
        </p:blipFill>
        <p:spPr>
          <a:xfrm>
            <a:off x="4114800" y="4653000"/>
            <a:ext cx="5029200" cy="2205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3200400" y="380880"/>
            <a:ext cx="2209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fghanis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war filled and flighty country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2133720" y="2666880"/>
            <a:ext cx="426708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arty repub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 Kab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Persian, Pash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 99% Muslim, 1%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28.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al gas, petroleum, coal, copper, sulfur, lead, zinc, iron ore, sa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z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670572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im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248520" y="4191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os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525780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295596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5"/>
          <a:stretch/>
        </p:blipFill>
        <p:spPr>
          <a:xfrm>
            <a:off x="0" y="2666880"/>
            <a:ext cx="213372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6"/>
          <a:stretch/>
        </p:blipFill>
        <p:spPr>
          <a:xfrm>
            <a:off x="6324480" y="2362320"/>
            <a:ext cx="281952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17T20:45:40Z</dcterms:modified>
  <cp:revision>12</cp:revision>
  <dc:subject/>
  <dc:title>Slide 1</dc:title>
</cp:coreProperties>
</file>